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28E-EB64-4BB1-80A8-8C7D1A83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4E7-63D0-47E5-9E29-AEB5780E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E74-BEBD-4FC6-BD1F-28A17609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B88-2736-4524-8CF5-B69F3F23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3E3-10DC-49E0-95FD-484A6F4C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A53-AA44-4286-B8E7-8D91DCF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4F9-65EE-4C26-89AE-C6E9599F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B97-49E4-4C5A-BDF6-1C7A36BF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D7C-7F90-426B-9C12-08F64C60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74F-8660-4407-BE27-67F4988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0F1-5C2D-4877-89DF-AA75645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170-5186-4446-BA49-4ACA626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9D97-16D6-4A6E-B9FC-EFA8AE69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 viaje de Ul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9636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595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Las Si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39360" cy="526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4365720"/>
            <a:ext cx="266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Pies de ave y cuerpo de muj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us cantos atraen a los naveg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Escila i Carib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46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5373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ligros del est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Vacas sagradas de Hel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616572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65920" cy="52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47640" y="4005360"/>
            <a:ext cx="2160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acrifican vacas para c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Helios les impone un cast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Calip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499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1413000"/>
            <a:ext cx="2160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Ninfa enamora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Lo retiene con ella 7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Isla del los fea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559640" cy="3749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43640" y="530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-Encuentra a Nausi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1b155"/>
                </a:solidFill>
                <a:latin typeface="Comic Sans MS"/>
              </a:rPr>
              <a:t>Ít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12160" cy="472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1484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d1b155"/>
                </a:solidFill>
                <a:latin typeface="Comic Sans MS"/>
              </a:rPr>
              <a:t>Llegada a Ítaca y reencuentro con Penélope</a:t>
            </a: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ro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388360" cy="503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916280"/>
            <a:ext cx="5003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b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ffffcb"/>
                </a:solidFill>
                <a:latin typeface="Comic Sans MS"/>
              </a:rPr>
              <a:t>Parti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atalla contra los ci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877000" cy="50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92360" y="580536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-El viento desvia a Ulises hasta el país de los ci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635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Lotófa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416720" cy="556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198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Flor del lo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637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Les hace olvidar el vi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íc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03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87280" y="1916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igantes de un solo o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997360"/>
            <a:ext cx="20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Encierra a Ulises i a los suyos en una cu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4724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 clavan una esta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4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E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519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407664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Comic Sans MS"/>
              </a:rPr>
              <a:t>-Indica la ruta a Ulises i los g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01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-Les da un saco de v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Lestrig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08920" cy="536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1341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-Atacan las naves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Maga Ci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70840" cy="506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32000" y="472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onversión en cer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73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-Ulises los resc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El 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0560" y="56610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550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11640" y="5516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5:43:23Z</dcterms:created>
  <dc:creator>ANDREA</dc:creator>
  <dc:description/>
  <dc:language>en-US</dc:language>
  <cp:lastModifiedBy>ANDREA</cp:lastModifiedBy>
  <dcterms:modified xsi:type="dcterms:W3CDTF">2010-11-07T09:26:45Z</dcterms:modified>
  <cp:revision>57</cp:revision>
  <dc:subject/>
  <dc:title>Las hazañas de Ulises</dc:title>
</cp:coreProperties>
</file>